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A5F4-04F9-4022-BE83-EC961E8D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25BD3-6B84-4CBB-9864-2F8FB6156D7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68F7-2182-4652-8E5F-044BBEB056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D574-118C-4386-8CF7-D2A7B39E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1412-A3EE-4CA6-97C4-74FD1B5A8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9B29B-FC38-4BCF-9AEE-DAF9630A36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39F7F-D3A5-4F6F-A46E-2F3CD3D26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30B0-96AE-47EE-8CF4-A42E2F2DB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C9E25-E6BB-4343-A907-9E674E4A9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B87CD-D903-41E4-B9EB-2DDAE7979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86555-1035-4F86-A08C-CC76627CC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AA6BE-9E26-4C67-AAA8-B6559ED7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E0C4E-9AF5-41AF-A812-62497C41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DEE-82D1-42F8-A0CD-3B161E05E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AC03A-F7DB-4D38-834F-557F3F33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51934-9F2F-4CF2-B43D-E4A4C7AFC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F3BBB-9964-4725-9B9B-09E73CC6F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8E7FC-B032-459B-8626-778CB8C084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7310B-1B97-4DAC-901C-BA34E2C38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B492-0A12-4D36-A56D-0F1FC7FE7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52105-1236-485A-A72F-BA480B3F9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6F61B-AA7F-46A6-A166-4344813BF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B040-7D9D-4A10-8F35-87A2B3A45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DBAAD-6A8C-4316-A373-99AC1C5F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7EFB-9D40-431C-B58C-105E285E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8748-A4E4-4C42-9B6E-C6104D888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d with permission of V. Morris, Phillips Preparato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FEE44-4915-4955-912B-A8BC92D4C5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Used with permission of V. Morris, Phillips Preparatory Sch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44794-CDCB-409E-A7A5-82DEC1640F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4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FFF1-11F2-4CF4-AFAD-911D52BF82C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590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"/>
              </a:rPr>
              <a:t>Climatographs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4220C-0B67-4857-93A0-6099375459A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4614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How to Read a Climatograph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828800"/>
            <a:ext cx="861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very place on Earth has weath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ever, different places on Earth have different types of "typical" weather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ome places are dry, some are wet, some are hot, some are cold, and some are a little of everything!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6AB6B-5B82-4406-A2FD-4FEC8082B75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b7"/>
                </a:solidFill>
                <a:latin typeface="Arial Black"/>
              </a:rPr>
              <a:t>How to Read a Climatograph: 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169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find out what the weather is like where you live by looking out the window or by stepping outside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Weather refers to temperature, precipitation (rain and snow), and the wind's direction and spe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cientists who study the weather collect information from different places on Earth and come up with averages, or typical types of weather, for a particular plac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his average, or typical type of weather that occurs during a year, is called the "climate."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53C4B-4FAF-4D6F-8A95-203EC499932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44440"/>
            <a:ext cx="88423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How to Read a Climatograph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04920" y="1904760"/>
            <a:ext cx="854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quick way to get an idea of the climate of a particular place is to look at a "climate-graph," or "climatograph."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A climatograph is what scientists create to show a particular location's average temperature and precipitation during the yea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Slide Number Placeholder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2D156-976E-430A-82A3-7B06F0F0083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7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ample Climatograp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8" name="Picture 4" descr="Image of a climograph for Moose Factory, Canada.  Please have someone assist you with this."/>
          <p:cNvPicPr/>
          <p:nvPr/>
        </p:nvPicPr>
        <p:blipFill>
          <a:blip r:embed="rId1"/>
          <a:stretch/>
        </p:blipFill>
        <p:spPr>
          <a:xfrm>
            <a:off x="4788000" y="1066680"/>
            <a:ext cx="4071960" cy="55627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bar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on the graph represent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ecipitati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d it on the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ne represents temperatu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ad it on the right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ll these numbers are averages per mont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5282E-CF4B-477E-94C5-FB522DC20E1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3851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Sample Climatograph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3716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The months of the year are along the bottom of the graph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e letters J, F, M, etc., stand for January, February, March, et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Picture 4" descr="Image of a climograph for Moose Factory, Canada.  Please have someone assist you with this."/>
          <p:cNvPicPr/>
          <p:nvPr/>
        </p:nvPicPr>
        <p:blipFill>
          <a:blip r:embed="rId1"/>
          <a:stretch/>
        </p:blipFill>
        <p:spPr>
          <a:xfrm>
            <a:off x="5072040" y="1371600"/>
            <a:ext cx="40719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Slide Number Placeholder 6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EF6E7-9463-498C-8DDD-783DA7F5B8B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44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b7"/>
                </a:solidFill>
                <a:latin typeface="Arial"/>
              </a:rPr>
              <a:t>Climatograph:  Answer the question using it.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917960" y="1143000"/>
            <a:ext cx="3927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ld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est month?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Jul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December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sea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Chicago climatograph"/>
          <p:cNvPicPr/>
          <p:nvPr/>
        </p:nvPicPr>
        <p:blipFill>
          <a:blip r:embed="rId1"/>
          <a:stretch/>
        </p:blipFill>
        <p:spPr>
          <a:xfrm>
            <a:off x="0" y="914400"/>
            <a:ext cx="480060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Slide Number Placeholder 5"/>
          <p:cNvSpPr/>
          <p:nvPr/>
        </p:nvSpPr>
        <p:spPr>
          <a:xfrm>
            <a:off x="693720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2E68-63E3-4D61-8711-387A3653301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44080"/>
            <a:ext cx="884232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b7"/>
                </a:solidFill>
                <a:latin typeface="Arial Black"/>
              </a:rPr>
              <a:t>Use the climatograph to answer the questions.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3200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is cold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month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ttest mon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est mont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May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mp. in March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ttest seaso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vancouver climatograph"/>
          <p:cNvPicPr/>
          <p:nvPr/>
        </p:nvPicPr>
        <p:blipFill>
          <a:blip r:embed="rId1"/>
          <a:stretch/>
        </p:blipFill>
        <p:spPr>
          <a:xfrm>
            <a:off x="3657600" y="685800"/>
            <a:ext cx="5253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0T02:37:58Z</dcterms:created>
  <dc:creator>Jeff and Vickie</dc:creator>
  <dc:description/>
  <dc:language>en-US</dc:language>
  <cp:lastModifiedBy>skrial</cp:lastModifiedBy>
  <dcterms:modified xsi:type="dcterms:W3CDTF">2011-01-07T14:13:06Z</dcterms:modified>
  <cp:revision>10</cp:revision>
  <dc:subject/>
  <dc:title>Climatographs, Latitude and Longitude Review</dc:title>
</cp:coreProperties>
</file>